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4920" y="44280"/>
            <a:ext cx="933480" cy="1143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7334280" y="5156280"/>
            <a:ext cx="1809720" cy="165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kbar"/>
              </a:rPr>
              <a:t>Cyfeiriannau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50920" y="2420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mcanion y w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rbyn diwedd y wers byddwch yn gallu ysgrifennu’r cyfeiriant o un pwynt i bwynt ar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33336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Cyfeiriannau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1125360"/>
            <a:ext cx="410364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Y Tri Rheol Pwys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2997360"/>
            <a:ext cx="88203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2.Ongl glocwed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- Rhaid mesur yr ongl yn y cyfeiriad clocwed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916280"/>
            <a:ext cx="87854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Linell Gogled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- Rhaid wastad llunio’r llinell Gogledd er mwyn mesur o’r llinell h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4149720"/>
            <a:ext cx="8856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3. Tri ffigw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- Rhaid cofnodi’r ateb fel tri ffigwr e.e. mae ongl o 6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yn 06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341360"/>
            <a:ext cx="8569080" cy="522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33336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Cyfeiriannau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765000"/>
            <a:ext cx="74167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nghraifft 1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Cyfrifwch gyfeiriant B o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4000680"/>
            <a:ext cx="14436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473120" y="1917720"/>
            <a:ext cx="0" cy="2155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00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907920"/>
            <a:ext cx="5329080" cy="5761080"/>
          </a:xfrm>
          <a:prstGeom prst="irregularSeal2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gyfrifo cyfeir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 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ydych bob am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n mesur o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4005360"/>
            <a:ext cx="36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1052640"/>
            <a:ext cx="5761080" cy="597672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ydym bob amser y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sur o’r gogled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lly rhaid llun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nell y gogle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341360"/>
            <a:ext cx="8569080" cy="522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3336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Cyfeiriannau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765000"/>
            <a:ext cx="74167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nghraifft 1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Cyfrifwch gyfeiriant B o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http://media.nasaexplores.com/lessons/02-019/images/protractor5.jpg"/>
          <p:cNvPicPr/>
          <p:nvPr/>
        </p:nvPicPr>
        <p:blipFill>
          <a:blip r:embed="rId2"/>
          <a:stretch/>
        </p:blipFill>
        <p:spPr>
          <a:xfrm>
            <a:off x="826920" y="1484280"/>
            <a:ext cx="3256200" cy="5111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8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4000680"/>
            <a:ext cx="14436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473120" y="1917720"/>
            <a:ext cx="0" cy="2155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474920" y="2781360"/>
            <a:ext cx="3384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2920" y="400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4005360"/>
            <a:ext cx="36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2421000"/>
            <a:ext cx="6408720" cy="367200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na rhaid llunio llin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yth rhwng y dd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wy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44280"/>
            <a:ext cx="4176720" cy="3456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wr mes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r ong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3716280"/>
            <a:ext cx="358920" cy="217440"/>
          </a:xfrm>
          <a:custGeom>
            <a:avLst/>
            <a:gdLst/>
            <a:ahLst/>
            <a:rect l="l" t="t" r="r" b="b"/>
            <a:pathLst>
              <a:path w="226" h="137">
                <a:moveTo>
                  <a:pt x="0" y="0"/>
                </a:moveTo>
                <a:cubicBezTo>
                  <a:pt x="71" y="11"/>
                  <a:pt x="143" y="23"/>
                  <a:pt x="181" y="46"/>
                </a:cubicBezTo>
                <a:cubicBezTo>
                  <a:pt x="219" y="69"/>
                  <a:pt x="222" y="103"/>
                  <a:pt x="226" y="13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2421000"/>
            <a:ext cx="6408720" cy="3672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fiwch fesur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linell y gogle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n glocwe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476360" y="3068640"/>
            <a:ext cx="266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1341360"/>
            <a:ext cx="8569080" cy="522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33336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Cyfeiriannau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765000"/>
            <a:ext cx="74167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nghraifft 1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Cyfrifwch gyfeiriant B o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http://media.nasaexplores.com/lessons/02-019/images/protractor5.jpg"/>
          <p:cNvPicPr/>
          <p:nvPr/>
        </p:nvPicPr>
        <p:blipFill>
          <a:blip r:embed="rId2"/>
          <a:stretch/>
        </p:blipFill>
        <p:spPr>
          <a:xfrm>
            <a:off x="826920" y="1484280"/>
            <a:ext cx="3256200" cy="5111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78800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4000680"/>
            <a:ext cx="14436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73120" y="1917720"/>
            <a:ext cx="0" cy="2155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474920" y="2781360"/>
            <a:ext cx="3384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0364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00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4005360"/>
            <a:ext cx="36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716280"/>
            <a:ext cx="358920" cy="217440"/>
          </a:xfrm>
          <a:custGeom>
            <a:avLst/>
            <a:gdLst/>
            <a:ahLst/>
            <a:rect l="l" t="t" r="r" b="b"/>
            <a:pathLst>
              <a:path w="226" h="137">
                <a:moveTo>
                  <a:pt x="0" y="0"/>
                </a:moveTo>
                <a:cubicBezTo>
                  <a:pt x="71" y="11"/>
                  <a:pt x="143" y="23"/>
                  <a:pt x="181" y="46"/>
                </a:cubicBezTo>
                <a:cubicBezTo>
                  <a:pt x="219" y="69"/>
                  <a:pt x="222" y="103"/>
                  <a:pt x="226" y="13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692280"/>
            <a:ext cx="3240000" cy="1439640"/>
          </a:xfrm>
          <a:prstGeom prst="wedgeRoundRectCallout">
            <a:avLst>
              <a:gd name="adj1" fmla="val -53773"/>
              <a:gd name="adj2" fmla="val 12353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r ongl yw 70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2276640"/>
            <a:ext cx="6408720" cy="3960720"/>
          </a:xfrm>
          <a:prstGeom prst="irregularSeal2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lly 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yfeiriant y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1700280"/>
            <a:ext cx="6912000" cy="403236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070</a:t>
            </a:r>
            <a:r>
              <a:rPr b="0" lang="en-GB" sz="96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341360"/>
            <a:ext cx="8569080" cy="522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3336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Cyfeiriannau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765000"/>
            <a:ext cx="7416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nghraifft 2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Cyfrifwch gyfeiriant B o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537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4920" y="1096920"/>
            <a:ext cx="5329080" cy="576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gyfrifo cyfeiri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 o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ydych bob ams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n mesur o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3711600"/>
            <a:ext cx="14436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17840" y="1628280"/>
            <a:ext cx="0" cy="2156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3213000"/>
            <a:ext cx="36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826920" y="3789360"/>
            <a:ext cx="2592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404640"/>
            <a:ext cx="5761080" cy="59770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lunio llinell y gogle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lunio llinell rhw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 a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10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341360"/>
            <a:ext cx="8569080" cy="522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33336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Cyfeiriannau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765000"/>
            <a:ext cx="7416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nghraifft 2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Cyfrifwch gyfeiriant B o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537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14920" y="404640"/>
            <a:ext cx="5329080" cy="5761080"/>
          </a:xfrm>
          <a:prstGeom prst="irregularSeal2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yma’r ongl sy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gen cyfrif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3711600"/>
            <a:ext cx="14436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417840" y="1628280"/>
            <a:ext cx="0" cy="2156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3068640"/>
            <a:ext cx="36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826920" y="3789360"/>
            <a:ext cx="2592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16160" y="3503520"/>
            <a:ext cx="583920" cy="64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92" y="4"/>
                </a:moveTo>
                <a:arcTo wR="10800" hR="10800" stAng="-5307064" swAng="14856151"/>
                <a:lnTo>
                  <a:pt x="10800" y="10800"/>
                </a:lnTo>
                <a:close/>
              </a:path>
              <a:path fill="none" w="21600" h="21600">
                <a:moveTo>
                  <a:pt x="11092" y="4"/>
                </a:moveTo>
                <a:arcTo wR="10800" hR="10800" stAng="-5307064" swAng="14856151"/>
              </a:path>
            </a:pathLst>
          </a:custGeom>
          <a:noFill/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771640" y="3213000"/>
            <a:ext cx="115128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05" y="22"/>
                </a:moveTo>
                <a:arcTo wR="10800" hR="10800" stAng="-5621479" swAng="5621479"/>
                <a:lnTo>
                  <a:pt x="10800" y="10800"/>
                </a:lnTo>
                <a:close/>
              </a:path>
              <a:path fill="none" w="21600" h="21600">
                <a:moveTo>
                  <a:pt x="10105" y="22"/>
                </a:moveTo>
                <a:arcTo wR="10800" hR="10800" stAng="-5621479" swAng="5621479"/>
              </a:path>
            </a:pathLst>
          </a:custGeom>
          <a:noFill/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32000" y="620640"/>
            <a:ext cx="6228000" cy="6237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d gan fod yr ong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n fwy na 18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e’n haws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yfrifo yr ongl ar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tynnu’r ate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341360"/>
            <a:ext cx="8569080" cy="5229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33336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Comic Sans MS"/>
              </a:rPr>
              <a:t>Cyfeiriannau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765000"/>
            <a:ext cx="7416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nghraifft 2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Cyfrifwch gyfeiriant B o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http://media.nasaexplores.com/lessons/02-019/images/protractor5.jpg"/>
          <p:cNvPicPr/>
          <p:nvPr/>
        </p:nvPicPr>
        <p:blipFill>
          <a:blip r:embed="rId2"/>
          <a:stretch/>
        </p:blipFill>
        <p:spPr>
          <a:xfrm>
            <a:off x="763560" y="1197000"/>
            <a:ext cx="3303720" cy="5183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564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5373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8000" y="3711600"/>
            <a:ext cx="14436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417840" y="1628280"/>
            <a:ext cx="0" cy="2156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8360" y="3068640"/>
            <a:ext cx="36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26920" y="3789360"/>
            <a:ext cx="2592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16160" y="3503520"/>
            <a:ext cx="583920" cy="64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92" y="4"/>
                </a:moveTo>
                <a:arcTo wR="10800" hR="10800" stAng="-5307064" swAng="14856151"/>
                <a:lnTo>
                  <a:pt x="10800" y="10800"/>
                </a:lnTo>
                <a:close/>
              </a:path>
              <a:path fill="none" w="21600" h="21600">
                <a:moveTo>
                  <a:pt x="11092" y="4"/>
                </a:moveTo>
                <a:arcTo wR="10800" hR="10800" stAng="-5307064" swAng="14856151"/>
              </a:path>
            </a:pathLst>
          </a:custGeom>
          <a:noFill/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771640" y="3213000"/>
            <a:ext cx="1151280" cy="187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05" y="22"/>
                </a:moveTo>
                <a:arcTo wR="10800" hR="10800" stAng="-5621479" swAng="5621479"/>
                <a:lnTo>
                  <a:pt x="10800" y="10800"/>
                </a:lnTo>
                <a:close/>
              </a:path>
              <a:path fill="none" w="21600" h="21600">
                <a:moveTo>
                  <a:pt x="10105" y="22"/>
                </a:moveTo>
                <a:arcTo wR="10800" hR="10800" stAng="-5621479" swAng="5621479"/>
              </a:path>
            </a:pathLst>
          </a:custGeom>
          <a:noFill/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4724280"/>
            <a:ext cx="3168720" cy="1297080"/>
          </a:xfrm>
          <a:prstGeom prst="wedgeEllipseCallout">
            <a:avLst>
              <a:gd name="adj1" fmla="val -59921"/>
              <a:gd name="adj2" fmla="val -2637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r ongl yw 12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620640"/>
            <a:ext cx="6227640" cy="482436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elly y cyfeiria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=360 - 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48000" y="620640"/>
            <a:ext cx="6227640" cy="4824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240</a:t>
            </a:r>
            <a:r>
              <a:rPr b="0" lang="en-GB" sz="66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2:11:07Z</dcterms:created>
  <dc:creator>Dewi Williams</dc:creator>
  <dc:description/>
  <dc:language>en-US</dc:language>
  <cp:lastModifiedBy>Betsan Wyn Thomas</cp:lastModifiedBy>
  <dcterms:modified xsi:type="dcterms:W3CDTF">2008-04-29T16:34:23Z</dcterms:modified>
  <cp:revision>6</cp:revision>
  <dc:subject/>
  <dc:title>Cyfranedd.</dc:title>
</cp:coreProperties>
</file>